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C14D3-8258-4DA4-87C8-3D2814AFE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AA7D2-307F-4CA0-8495-C3BDB43C6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F18F8-25C6-4E51-9283-AF9AD2C28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49342-B36C-46D5-93CB-43F5FF040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4DB4-8D21-4C1F-BC8B-35E61B6B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81DF0-A8AC-41FF-92C2-1099C5A7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D6056-C3A2-462B-B362-1AA9ED2B1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B0E3-788F-4804-9B35-0B66401F8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DA90-C3D7-417C-B55E-A38E64E9D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02153-8A3F-4079-B085-9C643C56A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91FD-9F86-4F2E-8387-A419B144E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6CC03-7458-4454-A5AB-D08B2A447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41B0-71C1-49F3-8449-517F132D7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ascsports.org/Pdfs/gen/2008/11/25/AcademicFall08.pdf"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athan Stewa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9360">
            <a:solidFill>
              <a:srgbClr val="009999"/>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en High Sch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as Lutheran University</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a:hlinkClick r:id="rId1"/>
          </p:cNvPr>
          <p:cNvPicPr/>
          <p:nvPr/>
        </p:nvPicPr>
        <p:blipFill>
          <a:blip r:embed="rId2"/>
          <a:stretch/>
        </p:blipFill>
        <p:spPr>
          <a:xfrm>
            <a:off x="3200400" y="1600200"/>
            <a:ext cx="3333600" cy="453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pus Life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t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ketba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c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leyball</a:t>
            </a:r>
            <a:endParaRPr b="0" lang="en-US" sz="3200" spc="-1" strike="noStrike">
              <a:solidFill>
                <a:srgbClr val="000000"/>
              </a:solidFill>
              <a:latin typeface="Arial"/>
            </a:endParaRPr>
          </a:p>
        </p:txBody>
      </p:sp>
      <p:pic>
        <p:nvPicPr>
          <p:cNvPr id="48" name="" descr=""/>
          <p:cNvPicPr/>
          <p:nvPr/>
        </p:nvPicPr>
        <p:blipFill>
          <a:blip r:embed="rId1"/>
          <a:stretch/>
        </p:blipFill>
        <p:spPr>
          <a:xfrm>
            <a:off x="3962520" y="1676520"/>
            <a:ext cx="3571920" cy="399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logy  Major</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plan to major in Biolog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Biology Major - Environmental Biology Track</a:t>
            </a:r>
            <a:br>
              <a:rPr sz="2800"/>
            </a:br>
            <a:r>
              <a:rPr b="0" lang="en-US" sz="2800" spc="-1" strike="noStrike">
                <a:solidFill>
                  <a:srgbClr val="000000"/>
                </a:solidFill>
                <a:latin typeface="Arial Narrow"/>
              </a:rPr>
              <a:t>This major allows students to concentrate their studies in biology on topics such as ecology, plant biology, aquatic biology, and vertebrate biology. The major includes supporting work in mathematics, statistics, physics, and chemistry. Students usually complete internships and/or research projects on topics of interest. The students present their findings to faculty and students during their senior year.</a:t>
            </a:r>
            <a:br>
              <a:rPr sz="2800"/>
            </a:br>
            <a:r>
              <a:rPr b="0" lang="en-US" sz="2800" spc="-1" strike="noStrike">
                <a:solidFill>
                  <a:srgbClr val="000000"/>
                </a:solidFill>
                <a:latin typeface="Arial Narro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 Chose TLU</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verse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 cla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otball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to H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gree Pla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logy/Biological Sciences; Molecular Biolog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6:42:11Z</dcterms:created>
  <dc:creator>762913</dc:creator>
  <dc:description/>
  <dc:language>en-US</dc:language>
  <cp:lastModifiedBy>762913</cp:lastModifiedBy>
  <dcterms:modified xsi:type="dcterms:W3CDTF">2009-02-24T16:30:04Z</dcterms:modified>
  <cp:revision>4</cp:revision>
  <dc:subject/>
  <dc:title>Johnathan Stewart</dc:title>
</cp:coreProperties>
</file>